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F52E4-DCEC-4AC6-BEB2-014D151DF2B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4AB56-5322-4D69-A8BA-8C5CE6BD2D6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89716-1B17-4C34-9904-EC18C053C17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ED2E3-9758-429F-BFC0-8B46A504950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4C9F-003B-4CB3-8FAF-517ECF136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87EA-9530-4E52-A196-823228EF7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F8FD-72E2-4005-8678-8009E2CBD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95A8-475F-4577-BAE3-B460D2097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5F698-4EF1-4AE0-A0A5-808DC75A1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E94B6-A754-4661-9650-6BB1154AD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7717C-CBE7-45DD-BBB9-B443C29AB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E5F71-57A0-4A57-9D00-DD850EFF9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32A59-4607-44EB-A8E7-14DDFCEE8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7C610-3AE4-4F03-A16C-2662E0A50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6B7C7-EE5D-44FD-9222-D49C846A0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AFDC-67CB-4804-81D7-6103857AA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C182D-1EF0-46E1-8EC1-612D12974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E4B2F-4EA4-41F8-BD6B-941EF9903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FC02F-CDFE-48FA-972F-7373E3545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0854E-3B71-4E6E-94BB-2446F31A1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8B068-02C5-446D-B9DA-4E01EC774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446C-1874-4455-82EF-C368CE771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D42C-0FE2-4682-B5A9-3743DAEBC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B1EA-665B-4822-BB8E-6872C85A4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CBED-DDB4-496F-9E8D-858D7D379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A40D-1B74-4028-AB14-5C000F487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490F-EDE1-49E4-B2C7-23FE3E89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C743-6675-4FC2-AAFE-61A281E4D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66A37-480D-4497-AACF-8CE30C209A4D}" type="slidenum">
              <a:rPr b="0" lang="ru-RU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2DA7F-3F5A-4D47-AA22-5F374D0196FB}" type="slidenum">
              <a:rPr b="0" lang="ru-RU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ОГБПОУ « КРИВОШЕНИСКИЙ АГРОПРОМЫШЛЕННЫЙ ТЕХНИКУМ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0" y="2643120"/>
            <a:ext cx="9144000" cy="206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Тема: Понятие, предмет и метод трудового прав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преподаватель ПД Трапезникова Л.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Трудовое право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500040" y="2000160"/>
            <a:ext cx="82152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6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 отрасль права, нормы которой регулируют общественные отношения, складывающиеся между работниками и работодателями по поводу реализации гражданами своих способностей к труду, а также иные, тесно связанные с ними отношен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2"/>
          <p:cNvSpPr/>
          <p:nvPr/>
        </p:nvSpPr>
        <p:spPr>
          <a:xfrm>
            <a:off x="663480" y="2873520"/>
            <a:ext cx="801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Предмет трудового права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cxnSp>
        <p:nvCxnSpPr>
          <p:cNvPr id="97" name="Прямая со стрелкой 4"/>
          <p:cNvCxnSpPr/>
          <p:nvPr/>
        </p:nvCxnSpPr>
        <p:spPr>
          <a:xfrm flipH="1">
            <a:off x="1999440" y="1643040"/>
            <a:ext cx="500760" cy="357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8" name="Прямая со стрелкой 5"/>
          <p:cNvCxnSpPr/>
          <p:nvPr/>
        </p:nvCxnSpPr>
        <p:spPr>
          <a:xfrm>
            <a:off x="5500800" y="1643040"/>
            <a:ext cx="429120" cy="357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9" name="TextBox 7"/>
          <p:cNvSpPr/>
          <p:nvPr/>
        </p:nvSpPr>
        <p:spPr>
          <a:xfrm>
            <a:off x="357120" y="1928880"/>
            <a:ext cx="2357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удовые отношения (возникают между работником и работодателем на основе заключенного трудового договор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Box 8"/>
          <p:cNvSpPr/>
          <p:nvPr/>
        </p:nvSpPr>
        <p:spPr>
          <a:xfrm>
            <a:off x="3786120" y="2143080"/>
            <a:ext cx="5143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изводные от трудовых(связанные) отношений – это отношения по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ганизации и управлению трудом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нятости и трудоустройству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фессиональной подготовке, переподготовк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циальному партнерству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териальной ответственност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решению трудовых споров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дзору и контролю за соблюдением трудового законодательства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Методы трудового права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TextBox 9"/>
          <p:cNvSpPr/>
          <p:nvPr/>
        </p:nvSpPr>
        <p:spPr>
          <a:xfrm>
            <a:off x="428760" y="1785960"/>
            <a:ext cx="8715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четание централизованного и локального, нормативного и договорного регулирова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говорный характер труда, установления его услов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астие работников и их представителей в установлении условий труда и контроль за их соблюдение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четание отношений равенства сторон и обязанность подчиняться законодательству и  правилам внутреннего трудового распоряд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динство и дифференциация правового регулирования труд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ецифические способы защиты трудовых пра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Принципы трудового права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Стрелка вниз 3"/>
          <p:cNvSpPr/>
          <p:nvPr/>
        </p:nvSpPr>
        <p:spPr>
          <a:xfrm>
            <a:off x="1857240" y="1714680"/>
            <a:ext cx="928800" cy="1143000"/>
          </a:xfrm>
          <a:prstGeom prst="downArrow">
            <a:avLst>
              <a:gd name="adj1" fmla="val 50000"/>
              <a:gd name="adj2" fmla="val 49994"/>
            </a:avLst>
          </a:prstGeom>
          <a:solidFill>
            <a:srgbClr val="cc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Стрелка вниз 3"/>
          <p:cNvSpPr/>
          <p:nvPr/>
        </p:nvSpPr>
        <p:spPr>
          <a:xfrm>
            <a:off x="6572160" y="1714680"/>
            <a:ext cx="928800" cy="1143000"/>
          </a:xfrm>
          <a:prstGeom prst="downArrow">
            <a:avLst>
              <a:gd name="adj1" fmla="val 50000"/>
              <a:gd name="adj2" fmla="val 49994"/>
            </a:avLst>
          </a:prstGeom>
          <a:solidFill>
            <a:srgbClr val="cc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571680" y="3000240"/>
            <a:ext cx="3357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нституция Р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. 3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Box 6"/>
          <p:cNvSpPr/>
          <p:nvPr/>
        </p:nvSpPr>
        <p:spPr>
          <a:xfrm>
            <a:off x="5357880" y="3000240"/>
            <a:ext cx="328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рудовой кодек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. 2, 3,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Источники трудового права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TextBox 8"/>
          <p:cNvSpPr/>
          <p:nvPr/>
        </p:nvSpPr>
        <p:spPr>
          <a:xfrm>
            <a:off x="857160" y="1928880"/>
            <a:ext cx="70009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ждународные догово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нституция Р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рудовой кодекс Р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едеральные закон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казы президента Р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становления правительст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коны и иные н.п.а. субъектов Р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окальные нормативные ак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Функции трудового права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Прямоугольник 2"/>
          <p:cNvSpPr/>
          <p:nvPr/>
        </p:nvSpPr>
        <p:spPr>
          <a:xfrm>
            <a:off x="2286000" y="2274840"/>
            <a:ext cx="4572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         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егулятивна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     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хранительна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щитна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       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изводственна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       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оциальна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       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оспитательна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36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Действие норм трудового права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Прямоугольник 1"/>
          <p:cNvSpPr/>
          <p:nvPr/>
        </p:nvSpPr>
        <p:spPr>
          <a:xfrm>
            <a:off x="2286000" y="227484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Прямоугольник 2"/>
          <p:cNvSpPr/>
          <p:nvPr/>
        </p:nvSpPr>
        <p:spPr>
          <a:xfrm>
            <a:off x="2286000" y="2274840"/>
            <a:ext cx="45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 КРУГУ ЛИЦ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ПРОСТРАНСТВЕ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 ВРЕМЕН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Любовь</dc:creator>
  <dc:description/>
  <dc:language>en-US</dc:language>
  <cp:lastModifiedBy>Любовь</cp:lastModifiedBy>
  <dcterms:modified xsi:type="dcterms:W3CDTF">2015-01-23T11:03:27Z</dcterms:modified>
  <cp:revision>72</cp:revision>
  <dc:subject/>
  <dc:title>ГОУ СПО Санкт-Петербург колледж управления и экономики «Александровский лицей»</dc:title>
</cp:coreProperties>
</file>